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B6F-EE00-4432-BC39-E21CDF9A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E93-B77D-4C35-BEEE-F34D3A79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140-E9D7-4BB3-8252-62657821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200-8F91-480A-8BC8-7E412C3E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A211-FA22-49A1-A590-75F920E6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0D61-61CF-46A6-8B1C-5A0EC785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6B9F-035C-4E34-A02D-7139AE4D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8D6E-DA99-48BD-B4BA-8DA9360E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37B9-87B3-438C-B67C-48CA7139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AB62-B321-4F91-9344-F9354B19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6FF9-A1C3-482F-98AA-E4097E00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001-CC74-49A3-A158-3DBFD60D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34D5-C438-47F4-BBA9-9B927FD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4E0D-4BC0-4191-86FC-FE8F1005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BABC-CD3F-4054-9DCD-72C98E9F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3359-C98E-464B-A415-D12D5566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2398-AFBF-4D37-AD04-CF2C8F57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DB9-DEBC-4945-BF2B-99CEDCA3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879-A8AA-4F00-8D8D-624C1130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875-DA0E-4CB4-9256-40EB5B30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817-8B03-46F2-AA68-46F99C91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C46-7230-4072-B5DB-767268E0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54A-DCC1-4DE2-B5A2-E8BE88E3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88F-044D-4A36-8E55-335EF52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701F-CC54-47EF-AE12-A12E0DDAC28E}" type="slidenum">
              <a:rPr b="0" lang="et-E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3E96-DEC4-49D5-9EC4-7D7396B5DBC5}" type="slidenum">
              <a:rPr b="0" lang="et-E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Verdana"/>
              </a:rPr>
              <a:t>Keemilised elemendi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Eidapere Põhiko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Verdana"/>
              </a:rPr>
              <a:t>Keemiliste elementide ajalooline tähistu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4272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Verdana"/>
              </a:rPr>
              <a:t>Esemed, mis iseloomustavad element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Verdana"/>
              </a:rPr>
              <a:t>Esimesed keemilised sümboli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Verdana"/>
              </a:rPr>
              <a:t>Daltoni tähistusvii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000000"/>
                </a:solidFill>
                <a:latin typeface="Verdana"/>
              </a:rPr>
              <a:t>Tänapäevane tähist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9243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Keemiliste elementide sümbol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C  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Carboneum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 – süsin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a –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Calcium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 – kalts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l  –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Chlorum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 – klo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u –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Cuprum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– va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H  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Hydrogenium –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vesin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g –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Hydrogyrum –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elavhõ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N   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Nitrogenium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 – lämmast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cc0000"/>
                </a:solidFill>
                <a:latin typeface="Verdana"/>
              </a:rPr>
              <a:t>N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a -  </a:t>
            </a:r>
            <a:r>
              <a:rPr b="0" i="1" lang="et-EE" sz="2800" spc="-1" strike="noStrike">
                <a:solidFill>
                  <a:srgbClr val="000000"/>
                </a:solidFill>
                <a:latin typeface="Verdana"/>
              </a:rPr>
              <a:t>Natrium</a:t>
            </a:r>
            <a:r>
              <a:rPr b="0" lang="et-EE" sz="2800" spc="-1" strike="noStrike">
                <a:solidFill>
                  <a:srgbClr val="000000"/>
                </a:solidFill>
                <a:latin typeface="Verdana"/>
              </a:rPr>
              <a:t> - naat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5562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336699"/>
                </a:solidFill>
                <a:latin typeface="Verdana"/>
              </a:rPr>
              <a:t>Keemiliste elementide sümbol tuleb nende ladinakeelsest nimetus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Sümbol ja val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2209680"/>
                <a:ext cx="97632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</m:e>
                      <m:e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676520" y="24382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6699"/>
                </a:solidFill>
                <a:latin typeface="Verdana"/>
              </a:rPr>
              <a:t>- sü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41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6699"/>
                </a:solidFill>
                <a:latin typeface="Verdana"/>
              </a:rPr>
              <a:t>-</a:t>
            </a:r>
            <a:r>
              <a:rPr b="0" lang="et-E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2000" spc="-1" strike="noStrike">
                <a:solidFill>
                  <a:srgbClr val="336699"/>
                </a:solidFill>
                <a:latin typeface="Verdana"/>
              </a:rPr>
              <a:t>va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581280" y="3048120"/>
                <a:ext cx="48769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657600" y="2438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6699"/>
                </a:solidFill>
                <a:latin typeface="Verdana"/>
              </a:rPr>
              <a:t>koefit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4343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336699"/>
                </a:solidFill>
                <a:latin typeface="Verdana"/>
              </a:rPr>
              <a:t>ind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86200" y="28195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647960" y="38862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Aatomid ja molekul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3915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Verdana"/>
              </a:rPr>
              <a:t>Tänan tähelepanu ee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866920" y="541008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©</a:t>
            </a:r>
            <a:r>
              <a:rPr b="0" lang="et-EE" sz="1800" spc="-1" strike="noStrike">
                <a:solidFill>
                  <a:srgbClr val="000000"/>
                </a:solidFill>
                <a:latin typeface="Verdana"/>
              </a:rPr>
              <a:t>anmet.epk 20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us</cp:lastModifiedBy>
  <dcterms:modified xsi:type="dcterms:W3CDTF">2009-01-23T21:45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