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528-42F8-446D-92CE-79429893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EF6-BDB9-4C88-A693-F870C3A4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135-9083-4658-B292-2FA7D114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E62-4ADC-48E9-ADB3-09C1FD5C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3109-0251-4F4C-8654-DB89F734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F55C-942B-4F6D-8858-D0E74D18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F3E0-CB53-408D-A4AE-1F01C336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2650-A80A-4E21-BFCF-5D9DFE01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C055-FBA6-463F-9CB2-A5595813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83F6-3437-4FBF-8753-3D913341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F934-0764-4177-84B9-4FC2DA7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98D-AE72-451C-ACDF-4075356D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AE45-A281-4504-8417-9C240198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C915-F9A5-4165-9E56-B7AB049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941C-1116-4BB7-A0DE-1706C7D4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6DE5-DC83-4B44-B071-ACB120CF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551D-B158-4191-B820-A5E26C4E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5C3-F4CC-4E55-9BEE-513A27FA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099-2E44-4BE1-AE53-A34064FA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374-0D1D-4AE5-B92E-A6C91E42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D9A-3EAA-481F-A959-19E03E9F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3AA-96AE-4988-B4BC-947E921F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037-D6ED-4A5E-A625-89ADABA3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50B-A0F7-4019-AD0E-E7283539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2577-DEB6-4F9F-8FA1-BEC3C1877AEC}" type="slidenum">
              <a:rPr b="0" lang="et-E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AA02-FF52-4130-B985-56828234BCC6}" type="slidenum">
              <a:rPr b="0" lang="et-E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Verdana"/>
              </a:rPr>
              <a:t>Keemilised elemendi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Eidapere Põhiko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Keemiliste elementide ajalooline tähistu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4272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Verdana"/>
              </a:rPr>
              <a:t>Esemed, mis iseloomustavad element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Verdana"/>
              </a:rPr>
              <a:t>Esimesed keemilised sümboli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Verdana"/>
              </a:rPr>
              <a:t>Daltoni tähistusvii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Verdana"/>
              </a:rPr>
              <a:t>Tänapäevane tähist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9243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Keemiliste elementide sümbol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C  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Carboneum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 – süsin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a –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Calcium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 – kalts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l  –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Chlorum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 – klo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u –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Cuprum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– va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H  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Hydrogenium –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vesin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g –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Hydrogyrum –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elavhõ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N  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Nitrogenium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 – lämmast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a - 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Natrium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 - naat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5562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336699"/>
                </a:solidFill>
                <a:latin typeface="Verdana"/>
              </a:rPr>
              <a:t>Keemiliste elementide sümbol tuleb nende ladinakeelsest nimetus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Sümbol ja val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2209680"/>
                <a:ext cx="97632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</m:e>
                      <m:e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676520" y="24382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6699"/>
                </a:solidFill>
                <a:latin typeface="Verdana"/>
              </a:rPr>
              <a:t>- sü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41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6699"/>
                </a:solidFill>
                <a:latin typeface="Verdana"/>
              </a:rPr>
              <a:t>-</a:t>
            </a: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2000" spc="-1" strike="noStrike">
                <a:solidFill>
                  <a:srgbClr val="336699"/>
                </a:solidFill>
                <a:latin typeface="Verdana"/>
              </a:rPr>
              <a:t>v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581280" y="3048120"/>
                <a:ext cx="48769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657600" y="2438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6699"/>
                </a:solidFill>
                <a:latin typeface="Verdana"/>
              </a:rPr>
              <a:t>koefit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4343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6699"/>
                </a:solidFill>
                <a:latin typeface="Verdana"/>
              </a:rPr>
              <a:t>ind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86200" y="28195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647960" y="38862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Aatomid ja molekul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3915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Verdana"/>
              </a:rPr>
              <a:t>Tänan tähelepanu ee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866920" y="541008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©</a:t>
            </a: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anmet.epk 20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us</cp:lastModifiedBy>
  <dcterms:modified xsi:type="dcterms:W3CDTF">2009-01-23T21:45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