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13B-0BEF-4064-AF5E-983FE614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D3D-6FF2-4B24-AD53-17F491C8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32D-0732-43B3-AF8E-96832659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F9F-6698-42A2-8C76-194AE8FD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410-8F53-47B5-9839-67EE3AA8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DAE-8B6A-4D82-8743-CC345B0B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9E4-3365-4CC6-87BE-74DE5E71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9F7-A020-4CDD-B2B7-DC905C9A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602-6E4E-49F5-97CD-18299315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A1B-D5E6-4440-8FAB-42904F8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9E0-05BC-4455-BEB5-5905652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118-42AB-4791-8570-1378534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01A7-352F-4111-8D92-082D90CF5759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88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000" spc="-1" strike="noStrike">
                <a:solidFill>
                  <a:srgbClr val="000000"/>
                </a:solidFill>
                <a:latin typeface="Arial"/>
              </a:rPr>
              <a:t>ALKOHOLIDE JA KARBOKSÜÜLHAPETE ESINDAJAD, </a:t>
            </a:r>
            <a:br>
              <a:rPr sz="5000"/>
            </a:br>
            <a:r>
              <a:rPr b="1" lang="et-EE" sz="5000" spc="-1" strike="noStrike">
                <a:solidFill>
                  <a:srgbClr val="000000"/>
                </a:solidFill>
                <a:latin typeface="Arial"/>
              </a:rPr>
              <a:t>SÜSIHAP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rtin S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GAG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26560" y="1267920"/>
            <a:ext cx="79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üsihappe valem on 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äga nõrk ja ebapüsiv 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kib 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lahustumisel vees, ühtlasi laguneb kergesti taga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 ↔ 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da leidub kõikides gaseeritud jook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üsihappe soolad on karbonaad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aldavad süsihappe aniooni 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looduses väga levinud ning tööstuses ja argielus tähts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söögiso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(pesu)so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lubjakivi, paekivi, marmor, kri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üsih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1273320"/>
          <a:ext cx="2232000" cy="12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1273320"/>
                    <a:ext cx="2232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38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Kui süsihappe sool (karbonaat) reageerib </a:t>
            </a:r>
            <a:r>
              <a:rPr b="1" lang="et-EE" sz="2200" spc="-1" strike="noStrike" u="sng">
                <a:solidFill>
                  <a:srgbClr val="000000"/>
                </a:solidFill>
                <a:uFillTx/>
                <a:latin typeface="Arial"/>
              </a:rPr>
              <a:t>tugevama happega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siis tekib hetkeliselt süsihap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mis kohe laguneb süsihappegaasiks ja veek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Tugevam hape nö tõrjub nõrgema tema soolast väl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I      -II       I –I         I     -II            I   -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l  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+   2NaCl   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+ 2Na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üsihappe + tugevam </a:t>
            </a:r>
            <a:r>
              <a:rPr b="0" lang="et-E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süsihape + tugevama hap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ol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hap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s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Karbonaadid reageerivad ka karboksüülhapetega (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–st tugevamad)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+ HCOO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HCOONa + 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HCOONa + 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üsih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640" y="4873680"/>
            <a:ext cx="2916360" cy="1984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80000" y="5157720"/>
            <a:ext cx="446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oolhappe (HCl) valamisel kriidi- või lubjakivitükkidele (CaCO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) on näha kohe süsihappegaasi (CO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) mullide eraldumist ja kuulda kihi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826560" y="1267920"/>
            <a:ext cx="5759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METAN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ärvitu, põletava maitsega surmavalt mürgine vedel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guneb veega igas vahekor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lkoholid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2700360" cy="186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3500280"/>
            <a:ext cx="831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lahustina, mootorikütusena ja keemia-tööstuses tooraine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aadak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etaani oksüdeerumi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 C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2 C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ingugaasi CO redutseerumi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O + 2 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560" y="1267920"/>
            <a:ext cx="57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ETAN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H (C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ärvitu, põletava maitsega vedel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ähem mürgine kui metan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kitab sõltuvust – seda nimetatakse alkoholismi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guneb veega igas vahekor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lkoholid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789360"/>
            <a:ext cx="831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lahustina, desinfitseerimisvahendina, kütusena ja kahjulike joovastavate jookide valmistamisek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aadakse alkoholkäärimisel glükoos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2 C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H + 2 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27640" y="1268280"/>
            <a:ext cx="29163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3779" t="5039" r="2520" b="7054"/>
          <a:stretch/>
        </p:blipFill>
        <p:spPr>
          <a:xfrm>
            <a:off x="755640" y="1278000"/>
            <a:ext cx="4700520" cy="5580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lkoholid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403960" y="1268280"/>
            <a:ext cx="37400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27640" y="4114800"/>
            <a:ext cx="38163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087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55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GLÜTSEROOL EH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GLÜTSER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paan-1,2,3-tri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ettimav ehk hügroskoopne magusa maitsega viskoosne vedel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i ole mürgine, kasutatakse lahtisti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kreemide, emailvärvide ja lõhkeainete (dünamiit ehk nitroglütseriin) valmistamis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lkoholid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6299" t="0" r="0" b="0"/>
          <a:stretch/>
        </p:blipFill>
        <p:spPr>
          <a:xfrm>
            <a:off x="6208560" y="1413000"/>
            <a:ext cx="29354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55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METAAN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rava hapu lõhnaga söövitav ja mõnevõrra mürgine vede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guneb veeg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leidub sipelga- ja mesilasemürgis ning nõgese kõrvekarvakes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redutseerij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rboksüülhapet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84080" y="4076640"/>
            <a:ext cx="2708280" cy="2781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48080" y="4076640"/>
            <a:ext cx="2857320" cy="2781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300720" y="4076640"/>
            <a:ext cx="284328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835680" y="1268280"/>
            <a:ext cx="2308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55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ETAAN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rava hapu lõhnaga söövitav vede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guneb veeg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kib etanooli lahjade lahuste äädikhappekäärimis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toidu valmistamisel ja konserveerimisel (marineerimi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rboksüülhapet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58018" t="7517" r="0" b="0"/>
          <a:stretch/>
        </p:blipFill>
        <p:spPr>
          <a:xfrm>
            <a:off x="6084720" y="1333440"/>
            <a:ext cx="3059280" cy="2800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15160" y="3789360"/>
            <a:ext cx="2328840" cy="306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26920" y="4340160"/>
            <a:ext cx="3095640" cy="251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774960" y="4378320"/>
            <a:ext cx="30355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1:38:00Z</dcterms:created>
  <dc:creator>Kasutaja</dc:creator>
  <dc:description/>
  <dc:language>en-US</dc:language>
  <cp:lastModifiedBy>Andrus</cp:lastModifiedBy>
  <dcterms:modified xsi:type="dcterms:W3CDTF">2009-04-29T18:07:40Z</dcterms:modified>
  <cp:revision>607</cp:revision>
  <dc:subject/>
  <dc:title>KOLLOIDLAHUSED</dc:title>
</cp:coreProperties>
</file>