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22F-D895-4E6B-A31D-3DA65D11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216-A8CE-4A2E-9C62-FA38AEF6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5E4-28EA-4503-A3F5-71BCAE12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570-18AB-4AF9-BED6-5F483430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7708-DCA5-4F94-9A49-9DAB74B2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3E64-26BD-4752-8B2A-AFC893F9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8238-1940-4382-BAB6-E637C228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9CC3-35A9-40FC-A806-92692CCC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D1FD-D4B0-486A-8F12-FB68071C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23D0-24A6-423C-8ECF-C95FAF96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0BC3-7CFB-4C9B-B2E5-5BDC4B5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0B7-5425-45AA-8A6C-BC6B5E53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2702-1F56-4D89-82F0-27450174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8813-3945-4CA2-8670-9AF4DF64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ACD1-3583-4A47-AF6B-2A6BD4D2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0D5C-0B64-4C6A-9D25-D912EB1A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161-A520-4509-87EE-F96CFB85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C5C-27DC-4AEF-BA68-DDACDC9E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5F2-7B37-4910-A162-BD03F2A0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162-192C-458F-A6EE-5BBFB712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A82-DC96-4D81-89A2-568F9D7D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7DC-28C7-4BCE-B21B-81321B75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C72-7C50-4A5C-BEC1-8FAD3B3C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212-64FB-4B14-AB7B-8314EA3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D33-A700-41BC-9578-F8602BF1EC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7BA2-B0B9-494B-BF29-2B9B3336388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ametsma@hot.ee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Aatomituuma ehitus. Isotoobi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Rapla Täiskasvanute Gümnaas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Elektroni ja prootoni võrdlu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267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Tiirleb ümber aatomi tuu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On mõõtmetelt üliväike, võrreldes tuumaga</a:t>
            </a: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Omab negatiivse laeng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52880" y="236232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Asub aatomituu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On mõõtmetelt väga suur võrreldes elektronig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Omab positiivse laeng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990720" y="1752480"/>
            <a:ext cx="1190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ektr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6400800" y="1676520"/>
            <a:ext cx="1104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oto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57200" y="4267080"/>
            <a:ext cx="8305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lektron ja prooton on aatomi koostisosad ja nende ehitus on kõigil aatomitel ühesugu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Aatom on elektriliselt neutraal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75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75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75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Neutroni ja prootoni võrdlu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2443320"/>
            <a:ext cx="36068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On elektriliselt neutraal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32160" y="24793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Omab positiivse elektrilaeng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1447920" y="1752480"/>
            <a:ext cx="11905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utro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5486400" y="1676520"/>
            <a:ext cx="1104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oto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2120" y="3809880"/>
            <a:ext cx="79246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Neutron ja prooton on oma massilt praktiliselt                      võrd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Neutroneid ja prootoneid kokku nimetatakse ühise nimetusega – nukleon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Aatomituuma ehit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Aatomituum koosneb prootonitest ja neutronit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Tuuma massiarv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on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prootonite ja neutronite koguarv tuu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A = Z +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 flipH="1">
            <a:off x="4572000" y="5549760"/>
            <a:ext cx="2230560" cy="70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992320" y="594504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Prootonite arv e. laengua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7615080" y="564192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602400" y="608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Neutronite a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8098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Keemiline element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429000" y="1676520"/>
            <a:ext cx="2286000" cy="36576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388620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4040280" y="3657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,9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3430080" y="1805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4038480" y="2057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5867280" y="18288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Elemendi järjekorra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502920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5943600" y="3048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lemendi sümb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7"/>
          <p:cNvSpPr/>
          <p:nvPr/>
        </p:nvSpPr>
        <p:spPr>
          <a:xfrm>
            <a:off x="4952880" y="3886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594360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Aatom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9"/>
          <p:cNvSpPr/>
          <p:nvPr/>
        </p:nvSpPr>
        <p:spPr>
          <a:xfrm>
            <a:off x="5257800" y="4648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594360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lemendi nime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31"/>
          <p:cNvSpPr/>
          <p:nvPr/>
        </p:nvSpPr>
        <p:spPr>
          <a:xfrm flipH="1">
            <a:off x="1981080" y="20574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0" y="2362320"/>
            <a:ext cx="30481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lektronide arv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= tuuma laenguarv 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= koht Mendelejevi                tabeli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Laengua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34"/>
          <p:cNvSpPr/>
          <p:nvPr/>
        </p:nvSpPr>
        <p:spPr>
          <a:xfrm flipH="1">
            <a:off x="1219320" y="4038480"/>
            <a:ext cx="266688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228600" y="5410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Times New Roman"/>
              </a:rPr>
              <a:t>Massiarv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= prootonite ja neutronite koguarv tuu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Laenguarv ja massiarv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Tuuma laenguarv on prootonite arv keemilise elemendi tuum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t-EE" sz="2800" spc="-1" strike="noStrike">
                <a:solidFill>
                  <a:srgbClr val="ffffff"/>
                </a:solidFill>
                <a:latin typeface="Times New Roman"/>
              </a:rPr>
              <a:t>Tuuma laenguarv võrdub elektronide arvuga aatom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Tuuma massiarv on prootonite ja neutronite koguarv tuu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Aatomi ehitu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990720" y="1676520"/>
          <a:ext cx="7785000" cy="27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78500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Isotoobid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Isotoobid on ühe ja sama keemilise elemendi erinevate massiarvudega A (seega erineva neutronite arvuga) aatomid. Neil isotoopidel on küll fikseeritud järjekorranumber tabelis (seega ka kindel laenguarv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Isotoopide hulgas esinevad tavaliselt ka radioaktiivsed isotoob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75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ffff"/>
                </a:solidFill>
                <a:latin typeface="Times New Roman"/>
              </a:rPr>
              <a:t>Tänan tähelepanu eest!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metsma@hot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t-EE" sz="1400" spc="-1" strike="noStrike">
                <a:solidFill>
                  <a:srgbClr val="ffffff"/>
                </a:solidFill>
                <a:latin typeface="Times New Roman"/>
              </a:rPr>
              <a:t>anmet.rtg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us Metsma</dc:creator>
  <dc:description/>
  <dc:language>en-US</dc:language>
  <cp:lastModifiedBy>Andrus Metsma</cp:lastModifiedBy>
  <dcterms:modified xsi:type="dcterms:W3CDTF">2013-11-07T00:44:10Z</dcterms:modified>
  <cp:revision>9</cp:revision>
  <dc:subject/>
  <dc:title>PowerPoint Presentation</dc:title>
</cp:coreProperties>
</file>