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1C2-1F93-4409-8F42-07591D66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238-E275-4326-8DE1-D283B79C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7F3-1805-4842-A51F-F3A7EAAC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7CA-D2A3-4CB6-AA72-60A64F2A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B7CC-CF48-4DAE-A068-830B4DDA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967E-39E8-4EBA-B957-D5C6700E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92E1-6A15-4DE7-8FCA-477B409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5BED-70D5-4D38-B134-1AB148A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4797-9B84-4B60-AEEB-BC4437E8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B340-8685-4EBB-AB7C-A84D8F8D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8C43-6203-45AD-8A7B-4FC6AB6F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123-D71B-4695-BA32-CFE27CA9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D83E-B5F4-4F7A-9619-1C4317DD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9560-463B-40F3-81D4-D8D405AF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56B8-1B69-48A7-86AE-E103FFB6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37F7-F95E-464E-B9E5-D68FD626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2A8A-F468-4374-B693-91E1B62A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2B1-2167-4F29-AD66-30017642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7BF-1F3B-4F67-AC10-58563627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669-E64C-470C-82AD-8552A5C3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F35-6D8A-4D9B-83DD-D7B8516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C5E-4231-4FA4-AD00-A32723B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5EB-EF30-48FB-8F86-B03A6EAA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5CA-2B00-45B0-A4C2-18BA62B6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E00A-C7DE-4BAB-A4DC-5DF70327B67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A129-58A7-499E-AA02-F073DBF08F4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metsma@hot.ee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Aatomituuma ehitus. Isotoobi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Rapla Täiskasvanute Gümnaas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Elektroni ja prootoni võrdlu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267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Tiirleb ümber aatomi tuu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On mõõtmetelt üliväike, võrreldes tuumaga</a:t>
            </a: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Omab negatiivse laeng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52880" y="236232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Asub aatomituu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On mõõtmetelt väga suur võrreldes elektronig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Omab positiivse laeng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990720" y="1752480"/>
            <a:ext cx="1190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ektr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6400800" y="1676520"/>
            <a:ext cx="1104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oto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57200" y="4267080"/>
            <a:ext cx="8305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lektron ja prooton on aatomi koostisosad ja nende ehitus on kõigil aatomitel ühesugu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Aatom on elektriliselt neutraal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75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75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75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Neutroni ja prootoni võrdlu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2443320"/>
            <a:ext cx="36068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On elektriliselt neutraal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32160" y="24793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Omab positiivse elektrilaeng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1447920" y="1752480"/>
            <a:ext cx="1190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utro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5486400" y="1676520"/>
            <a:ext cx="1104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oto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2120" y="3809880"/>
            <a:ext cx="79246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Neutron ja prooton on oma massilt praktiliselt                      võrd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Neutroneid ja prootoneid kokku nimetatakse ühise nimetusega – nukleon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Aatomituuma ehit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Aatomituum koosneb prootonitest ja neutronit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Tuuma massiarv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on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prootonite ja neutronite koguarv tuu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A = Z +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 flipH="1">
            <a:off x="4572000" y="5549760"/>
            <a:ext cx="2230560" cy="70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992320" y="594504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Prootonite arv e. laengua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7615080" y="564192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602400" y="608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Neutronite a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8098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Keemiline element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429000" y="1676520"/>
            <a:ext cx="2286000" cy="36576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388620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4040280" y="3657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,9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3430080" y="1805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4038480" y="2057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5867280" y="18288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Elemendi järjekorra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502920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5943600" y="3048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lemendi sümb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7"/>
          <p:cNvSpPr/>
          <p:nvPr/>
        </p:nvSpPr>
        <p:spPr>
          <a:xfrm>
            <a:off x="4952880" y="3886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594360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Aatom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9"/>
          <p:cNvSpPr/>
          <p:nvPr/>
        </p:nvSpPr>
        <p:spPr>
          <a:xfrm>
            <a:off x="5257800" y="4648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594360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lemendi nime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31"/>
          <p:cNvSpPr/>
          <p:nvPr/>
        </p:nvSpPr>
        <p:spPr>
          <a:xfrm flipH="1">
            <a:off x="1981080" y="20574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0" y="2362320"/>
            <a:ext cx="30481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lektronide arv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= tuuma laenguarv 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= koht Mendelejevi                tabeli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Laengua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34"/>
          <p:cNvSpPr/>
          <p:nvPr/>
        </p:nvSpPr>
        <p:spPr>
          <a:xfrm flipH="1">
            <a:off x="1219320" y="4038480"/>
            <a:ext cx="266688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228600" y="5410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Massiarv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= prootonite ja neutronite koguarv tuu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Laenguarv ja massiarv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Tuuma laenguarv on prootonite arv keemilise elemendi tuum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ffffff"/>
                </a:solidFill>
                <a:latin typeface="Times New Roman"/>
              </a:rPr>
              <a:t>Tuuma laenguarv võrdub elektronide arvuga aatom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Tuuma massiarv on prootonite ja neutronite koguarv tuu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Aatomi ehitu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990720" y="1676520"/>
          <a:ext cx="778500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78500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Isotoobid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Isotoobid on ühe ja sama keemilise elemendi erinevate massiarvudega A (seega erineva neutronite arvuga) aatomid. Neil isotoopidel on küll fikseeritud järjekorranumber tabelis (seega ka kindel laenguarv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Isotoopide hulgas esinevad tavaliselt ka radioaktiivsed isotoob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75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Tänan tähelepanu eest!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metsma@hot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t-EE" sz="1400" spc="-1" strike="noStrike">
                <a:solidFill>
                  <a:srgbClr val="ffffff"/>
                </a:solidFill>
                <a:latin typeface="Times New Roman"/>
              </a:rPr>
              <a:t>anmet.rtg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us Metsma</dc:creator>
  <dc:description/>
  <dc:language>en-US</dc:language>
  <cp:lastModifiedBy>Andrus Metsma</cp:lastModifiedBy>
  <dcterms:modified xsi:type="dcterms:W3CDTF">2013-11-07T00:44:10Z</dcterms:modified>
  <cp:revision>9</cp:revision>
  <dc:subject/>
  <dc:title>PowerPoint Presentation</dc:title>
</cp:coreProperties>
</file>