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C36-A1B5-4BDF-88F2-CFFBA941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60A-3D84-4180-87D9-5A59F743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434-42E0-4449-A07E-D540436C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F69-81CB-4ECD-906A-F171E3C0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0A40-ED0E-486E-A14D-AF0FC330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A24D-E57F-41A4-9F7A-DE1E6A43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E878-8B62-41A6-8E72-7DB95529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E06C-89FC-4DD1-90C9-8781BDD9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7E78-154C-4E6A-8F34-12495109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835-77B7-458D-A0D1-BB98E4D9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9DEF-0B8A-426A-BD94-31B5717B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8C7-96E2-46F5-8F28-E2A224C2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E03-F868-448D-8960-78F4303E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B4C9-E00E-422E-A0D0-4A92E74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A15E-2B53-401A-A964-B657D71B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9592-216E-4CA7-8D73-0517872C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6A8F-384B-4738-8942-5EB3BAE8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C33-145E-4F97-83E2-059AD0F9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67B-E4AB-4CB8-B7B7-1126E509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588-AFE4-4602-8FC6-D355FF2C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F05-323F-429F-8F43-D31C71E0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B32-4AD6-46DB-9A87-559BF72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3A2-3648-44AD-8DA7-C0354B18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D23-8358-48FE-869E-9461D17F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091A-8673-4434-AD69-107D34972FB5}" type="slidenum">
              <a:rPr b="0" lang="et-E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B35B-63F7-4BF7-BAC9-CD093FE96E49}" type="slidenum">
              <a:rPr b="0" lang="et-E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tefus@hot.ee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Verdana"/>
              </a:rPr>
              <a:t>Alkaani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Eidapere Põhik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781680" y="2209680"/>
            <a:ext cx="171468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16100" r="34790" b="14100"/>
          <a:stretch/>
        </p:blipFill>
        <p:spPr>
          <a:xfrm>
            <a:off x="4876920" y="6858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114800" y="4495680"/>
            <a:ext cx="147636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Eta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257800" y="2895480"/>
                <a:ext cx="18288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243828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Propa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16120" y="2171880"/>
            <a:ext cx="1625400" cy="1218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824440" y="2178000"/>
            <a:ext cx="1562040" cy="120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638680" y="4114800"/>
                <a:ext cx="206244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85800" y="3886200"/>
            <a:ext cx="327672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Buta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2376360" cy="1395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6520" y="1752120"/>
            <a:ext cx="3921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Butaani molekul võib olla kahesug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Summaarne valem on aga mõlemal isomeeril ühesug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00240" y="1752480"/>
            <a:ext cx="2614680" cy="237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57800" y="4343400"/>
                <a:ext cx="251460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Pentaan ja tema isomeer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652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Pentaani molekul võib olla kas hargnenud või hargnema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8691" t="36710" r="11777" b="-4700"/>
          <a:stretch/>
        </p:blipFill>
        <p:spPr>
          <a:xfrm>
            <a:off x="1523880" y="3200400"/>
            <a:ext cx="1752840" cy="1363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12183" t="6791" r="39102" b="18642"/>
          <a:stretch/>
        </p:blipFill>
        <p:spPr>
          <a:xfrm>
            <a:off x="1523880" y="4724280"/>
            <a:ext cx="1447920" cy="1327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12183" t="20340" r="6600" b="18642"/>
          <a:stretch/>
        </p:blipFill>
        <p:spPr>
          <a:xfrm>
            <a:off x="1371600" y="1828800"/>
            <a:ext cx="2133720" cy="9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Kas tunned neid moleku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2133720"/>
            <a:ext cx="3124080" cy="167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334120" y="2362320"/>
            <a:ext cx="2895480" cy="1957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743200" y="3962520"/>
            <a:ext cx="2035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Alkaanide leidumine ja kasutami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100" spc="-1" strike="noStrike">
                <a:solidFill>
                  <a:srgbClr val="000000"/>
                </a:solidFill>
                <a:latin typeface="Verdana"/>
              </a:rPr>
              <a:t>Maagaas - peamiselt CH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100" spc="-1" strike="noStrike">
                <a:solidFill>
                  <a:srgbClr val="000000"/>
                </a:solidFill>
                <a:latin typeface="Verdana"/>
              </a:rPr>
              <a:t>Nafta – alkaanide, tsükloalkaanide ja areenide seg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Nafta fraktsiooni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Bensiin       C5 - C9 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Ligroiin ehk lakibensii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Petrooleu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Diiselkütu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Õli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100" spc="-1" strike="noStrike">
                <a:solidFill>
                  <a:srgbClr val="000000"/>
                </a:solidFill>
                <a:latin typeface="Verdana"/>
              </a:rPr>
              <a:t>Masuu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100" spc="-1" strike="noStrike">
                <a:solidFill>
                  <a:srgbClr val="000000"/>
                </a:solidFill>
                <a:latin typeface="Verdana"/>
              </a:rPr>
              <a:t>Nafta krakkimine – bensiini saagise suurendamiseks lõhutakse pikad süsivesinikahelad lühematek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Verdana"/>
              </a:rPr>
              <a:t>Tänan tähelepanu ee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matefus@hot.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©</a:t>
            </a: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anmet.epk 20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Alkaan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336699"/>
                </a:solidFill>
                <a:latin typeface="Verdana"/>
              </a:rPr>
              <a:t>Alkaanid</a:t>
            </a:r>
            <a:r>
              <a:rPr b="1" lang="et-E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– sisaldavad ainult </a:t>
            </a:r>
            <a:r>
              <a:rPr b="1" lang="et-EE" sz="3000" spc="-1" strike="noStrike">
                <a:solidFill>
                  <a:srgbClr val="336699"/>
                </a:solidFill>
                <a:latin typeface="Verdana"/>
              </a:rPr>
              <a:t>tetraeedrilisi süsinikke</a:t>
            </a:r>
            <a:r>
              <a:rPr b="1" lang="et-E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t-EE" sz="2400" spc="-1" strike="noStrike">
                <a:solidFill>
                  <a:srgbClr val="000000"/>
                </a:solidFill>
                <a:latin typeface="Verdana"/>
              </a:rPr>
              <a:t>kõik aatomid on omavahel seotud ühekordsete sidemeteg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Triviaalsed nimetus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ühendite nimetused, mis on inimene ühenditele juhuslikult andnu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Need nimetused ei ole süstemaatilised ega väljenda aine keemilist koostist ega struktuur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t-EE" sz="2400" spc="-1" strike="noStrike">
                <a:solidFill>
                  <a:srgbClr val="000000"/>
                </a:solidFill>
                <a:latin typeface="Verdana"/>
              </a:rPr>
              <a:t>Näiteks soogaas, mille süstemaatiline nimetus on metaan (CH4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Süstemaatilised nimetused ja nomenklatuur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36699"/>
                </a:solidFill>
                <a:latin typeface="Verdana"/>
              </a:rPr>
              <a:t>Süstemaatilised nimetused</a:t>
            </a: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 - kajastavad ühendi keemilist struktuuri ja neid on võimalik struktuuri järgi üles märk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36699"/>
                </a:solidFill>
                <a:latin typeface="Verdana"/>
              </a:rPr>
              <a:t>Nomenklatuur</a:t>
            </a:r>
            <a:r>
              <a:rPr b="1" lang="et-EE" sz="3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aine struktuuri ja nimetust siduvate reeglite kogu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(IUPAC –Ineternational Union of Pure and Applied Chemistr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Alkaanide süstemaatilised nimetused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Alkaani tunnusteks on järelliide </a:t>
            </a:r>
            <a:r>
              <a:rPr b="1" lang="et-EE" sz="2000" spc="-1" strike="noStrike">
                <a:solidFill>
                  <a:srgbClr val="000000"/>
                </a:solidFill>
                <a:latin typeface="Verdana"/>
              </a:rPr>
              <a:t>–aan </a:t>
            </a: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(metaan, etaan, propaan, butaan,pentaan jne…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00"/>
                </a:solidFill>
                <a:latin typeface="Verdana"/>
              </a:rPr>
              <a:t>Sõnatüvi </a:t>
            </a: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(met, et, prop,but, pent) kirjeldab süsinikahela pikku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076" t="5014" r="762" b="0"/>
          <a:stretch/>
        </p:blipFill>
        <p:spPr>
          <a:xfrm>
            <a:off x="609480" y="1600200"/>
            <a:ext cx="81536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Alkaanide füüsikalised omadus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Verdana"/>
              </a:rPr>
              <a:t>Süsinikahela pikenedes kasvavad molaarmass, tihedus, ning sulamis ja keemistemperatuu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Verdana"/>
              </a:rPr>
              <a:t>Vastavalt süsinikahela pikkusele võivad alkaanid olla nii gaasilised, vedelad kui ka tahke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Verdana"/>
              </a:rPr>
              <a:t>Vedelas või tahkes olekus on nad veest kergem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2200" spc="-1" strike="noStrike">
                <a:solidFill>
                  <a:srgbClr val="000000"/>
                </a:solidFill>
                <a:latin typeface="Verdana"/>
              </a:rPr>
              <a:t>Vees enamasti ei lahustu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0" r="1064" b="0"/>
          <a:stretch/>
        </p:blipFill>
        <p:spPr>
          <a:xfrm>
            <a:off x="1066680" y="1752480"/>
            <a:ext cx="70866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Alkaanide füsioloogilised omadused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Alkaanidel (eriti aurudel või gaasilistel alkaanidel) on tugev narkootiline toi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Suurtes kogustes kahjustavad kesknärvi-süsteemi ja võivad olla isegi surmav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Nahale võivad alkaanid mõjuda ärritavalt ja samuti on ohtlik ka nende sissevõtmine (bensii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Tahketena on nad suhteliselt ohutu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(ei lahustu veres ega ve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Tahkeid alkaane (parafiini) kasutatakse toiduainetööstuses ja meditsiin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Verdana"/>
              </a:rPr>
              <a:t>Keemilised omadus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67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Metaan on redutseerija, sest ta on süsiniku kõige madalama oksüdatsiooniastmega (-IV) ühe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Verdana"/>
              </a:rPr>
              <a:t>Põlemisel oksüdeerub lõpuni (oksüdatsiooniastmeni +IV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38080" y="4343400"/>
                <a:ext cx="77724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Meta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38080" y="2133720"/>
                <a:ext cx="18288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30280" y="1752480"/>
            <a:ext cx="4437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Lihtsaim süsivesini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Õhust kergem ja ilma lõhna ning maitse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Vees ei lahustu ja oluliselt mürgine po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2600" spc="-1" strike="noStrike">
                <a:solidFill>
                  <a:srgbClr val="000000"/>
                </a:solidFill>
                <a:latin typeface="Verdana"/>
              </a:rPr>
              <a:t>Eraldatakse maagaasist, mille põhikomponent ta 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201132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705720" y="380880"/>
            <a:ext cx="1255680" cy="129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us</cp:lastModifiedBy>
  <dcterms:modified xsi:type="dcterms:W3CDTF">2009-03-30T16:27:5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