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726-9389-4421-909A-9A489483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3FE-E8F6-48D0-BE01-67E38124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AAF-DAB4-4804-B788-A28A8149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45D-2E1B-4FB2-AD3E-6C9E3AFF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5003-171C-42F5-990D-B71DB26B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E46E-59D5-4B5E-B0D2-6EE3207D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57E1-1C21-4681-AF96-EA2C1A85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7384-0065-4C13-8E01-97E0066B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5A56-B3B1-4C36-B5C4-2854099C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57F5-EEC9-46F3-B966-9D96E4B5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4C20-5B42-466A-8FB4-C840109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79E-BFBD-4ABD-B249-B94E4EC1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413E-F2FE-46CA-B674-66F5951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279E-FC8B-4EA4-A59C-1C36C64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B3BF-CF11-4936-9266-504A7BD3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478A-CAC8-4609-A267-B13CCBFF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6C02-9E13-45B4-BB1F-EB40BB72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97B-A9FB-47CB-87D2-A5AFCDE0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D3D-7281-4EB7-8D52-B2341D35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184-D547-4704-8080-1F6C67CA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B7E-17F3-4A03-8176-11D1DD84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619-71AC-4AB3-BF51-69C6FC47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988-A2A7-4B80-869C-F7D66219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BF0-336A-4F1E-9266-6DE74AD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ADDF-E355-4303-A42F-5BDB392992F3}" type="slidenum">
              <a:rPr b="0" lang="et-E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F048-E4F1-4A88-BCE6-4D07DF7FB078}" type="slidenum">
              <a:rPr b="0" lang="et-E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tefus@hot.ee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Verdana"/>
              </a:rPr>
              <a:t>Alkaani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Eidapere Põhik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781680" y="2209680"/>
            <a:ext cx="171468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16100" r="34790" b="14100"/>
          <a:stretch/>
        </p:blipFill>
        <p:spPr>
          <a:xfrm>
            <a:off x="4876920" y="6858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114800" y="4495680"/>
            <a:ext cx="147636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Eta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257800" y="2895480"/>
                <a:ext cx="18288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243828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Propa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16120" y="2171880"/>
            <a:ext cx="1625400" cy="1218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824440" y="2178000"/>
            <a:ext cx="1562040" cy="120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638680" y="4114800"/>
                <a:ext cx="206244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85800" y="3886200"/>
            <a:ext cx="327672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Buta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2376360" cy="1395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6520" y="1752120"/>
            <a:ext cx="3921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Butaani molekul võib olla kahesug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Summaarne valem on aga mõlemal isomeeril ühesug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00240" y="1752480"/>
            <a:ext cx="2614680" cy="237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57800" y="4343400"/>
                <a:ext cx="251460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Pentaan ja tema isomeer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652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Pentaani molekul võib olla kas hargnenud või hargnema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8691" t="36710" r="11777" b="-4700"/>
          <a:stretch/>
        </p:blipFill>
        <p:spPr>
          <a:xfrm>
            <a:off x="1523880" y="3200400"/>
            <a:ext cx="1752840" cy="1363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12183" t="6791" r="39102" b="18642"/>
          <a:stretch/>
        </p:blipFill>
        <p:spPr>
          <a:xfrm>
            <a:off x="1523880" y="4724280"/>
            <a:ext cx="1447920" cy="1327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12183" t="20340" r="6600" b="18642"/>
          <a:stretch/>
        </p:blipFill>
        <p:spPr>
          <a:xfrm>
            <a:off x="1371600" y="1828800"/>
            <a:ext cx="213372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Kas tunned neid moleku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2133720"/>
            <a:ext cx="3124080" cy="167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334120" y="2362320"/>
            <a:ext cx="2895480" cy="1957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743200" y="3962520"/>
            <a:ext cx="2035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Alkaanide leidumine ja kasutami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100" spc="-1" strike="noStrike">
                <a:solidFill>
                  <a:srgbClr val="000000"/>
                </a:solidFill>
                <a:latin typeface="Verdana"/>
              </a:rPr>
              <a:t>Maagaas - peamiselt CH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100" spc="-1" strike="noStrike">
                <a:solidFill>
                  <a:srgbClr val="000000"/>
                </a:solidFill>
                <a:latin typeface="Verdana"/>
              </a:rPr>
              <a:t>Nafta – alkaanide, tsükloalkaanide ja areenide seg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Nafta fraktsiooni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Bensiin       C5 - C9 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Ligroiin ehk lakibensii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Petrooleu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Diiselkütu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Õli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100" spc="-1" strike="noStrike">
                <a:solidFill>
                  <a:srgbClr val="000000"/>
                </a:solidFill>
                <a:latin typeface="Verdana"/>
              </a:rPr>
              <a:t>Masuu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100" spc="-1" strike="noStrike">
                <a:solidFill>
                  <a:srgbClr val="000000"/>
                </a:solidFill>
                <a:latin typeface="Verdana"/>
              </a:rPr>
              <a:t>Nafta krakkimine – bensiini saagise suurendamiseks lõhutakse pikad süsivesinikahelad lühematek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Verdana"/>
              </a:rPr>
              <a:t>Tänan tähelepanu ee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matefus@hot.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©</a:t>
            </a: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anmet.epk 20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Alkaan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336699"/>
                </a:solidFill>
                <a:latin typeface="Verdana"/>
              </a:rPr>
              <a:t>Alkaanid</a:t>
            </a:r>
            <a:r>
              <a:rPr b="1" lang="et-E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– sisaldavad ainult </a:t>
            </a:r>
            <a:r>
              <a:rPr b="1" lang="et-EE" sz="3000" spc="-1" strike="noStrike">
                <a:solidFill>
                  <a:srgbClr val="336699"/>
                </a:solidFill>
                <a:latin typeface="Verdana"/>
              </a:rPr>
              <a:t>tetraeedrilisi süsinikke</a:t>
            </a:r>
            <a:r>
              <a:rPr b="1" lang="et-E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t-EE" sz="2400" spc="-1" strike="noStrike">
                <a:solidFill>
                  <a:srgbClr val="000000"/>
                </a:solidFill>
                <a:latin typeface="Verdana"/>
              </a:rPr>
              <a:t>kõik aatomid on omavahel seotud ühekordsete sidemeteg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Triviaalsed nimetus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ühendite nimetused, mis on inimene ühenditele juhuslikult andnu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Need nimetused ei ole süstemaatilised ega väljenda aine keemilist koostist ega struktuur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t-EE" sz="2400" spc="-1" strike="noStrike">
                <a:solidFill>
                  <a:srgbClr val="000000"/>
                </a:solidFill>
                <a:latin typeface="Verdana"/>
              </a:rPr>
              <a:t>Näiteks soogaas, mille süstemaatiline nimetus on metaan (CH4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Süstemaatilised nimetused ja nomenklatuur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36699"/>
                </a:solidFill>
                <a:latin typeface="Verdana"/>
              </a:rPr>
              <a:t>Süstemaatilised nimetused</a:t>
            </a: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 - kajastavad ühendi keemilist struktuuri ja neid on võimalik struktuuri järgi üles märk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36699"/>
                </a:solidFill>
                <a:latin typeface="Verdana"/>
              </a:rPr>
              <a:t>Nomenklatuur</a:t>
            </a:r>
            <a:r>
              <a:rPr b="1" lang="et-EE" sz="3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aine struktuuri ja nimetust siduvate reeglite kogu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(IUPAC –Ineternational Union of Pure and Applied Chemistr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Alkaanide süstemaatilised nimetused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Alkaani tunnusteks on järelliide </a:t>
            </a:r>
            <a:r>
              <a:rPr b="1" lang="et-EE" sz="2000" spc="-1" strike="noStrike">
                <a:solidFill>
                  <a:srgbClr val="000000"/>
                </a:solidFill>
                <a:latin typeface="Verdana"/>
              </a:rPr>
              <a:t>–aan </a:t>
            </a: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(metaan, etaan, propaan, butaan,pentaan jne…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Verdana"/>
              </a:rPr>
              <a:t>Sõnatüvi </a:t>
            </a: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(met, et, prop,but, pent) kirjeldab süsinikahela pikku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076" t="5014" r="762" b="0"/>
          <a:stretch/>
        </p:blipFill>
        <p:spPr>
          <a:xfrm>
            <a:off x="609480" y="1600200"/>
            <a:ext cx="81536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Alkaanide füüsikalised omadus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Verdana"/>
              </a:rPr>
              <a:t>Süsinikahela pikenedes kasvavad molaarmass, tihedus, ning sulamis ja keemistemperatuu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Verdana"/>
              </a:rPr>
              <a:t>Vastavalt süsinikahela pikkusele võivad alkaanid olla nii gaasilised, vedelad kui ka tahke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Verdana"/>
              </a:rPr>
              <a:t>Vedelas või tahkes olekus on nad veest kergem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Verdana"/>
              </a:rPr>
              <a:t>Vees enamasti ei lahustu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0" r="1064" b="0"/>
          <a:stretch/>
        </p:blipFill>
        <p:spPr>
          <a:xfrm>
            <a:off x="1066680" y="1752480"/>
            <a:ext cx="70866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Alkaanide füsioloogilised omadused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Alkaanidel (eriti aurudel või gaasilistel alkaanidel) on tugev narkootiline to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Suurtes kogustes kahjustavad kesknärvi-süsteemi ja võivad olla isegi surmav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Nahale võivad alkaanid mõjuda ärritavalt ja samuti on ohtlik ka nende sissevõtmine (bensii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Tahketena on nad suhteliselt ohutu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(ei lahustu veres ega ve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Tahkeid alkaane (parafiini) kasutatakse toiduainetööstuses ja meditsiin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Verdana"/>
              </a:rPr>
              <a:t>Keemilised omadus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67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Metaan on redutseerija, sest ta on süsiniku kõige madalama oksüdatsiooniastmega (-IV) ühe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Põlemisel oksüdeerub lõpuni (oksüdatsiooniastmeni +IV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38080" y="4343400"/>
                <a:ext cx="77724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Meta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38080" y="2133720"/>
                <a:ext cx="18288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30280" y="1752480"/>
            <a:ext cx="4437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Lihtsaim süsivesini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Õhust kergem ja ilma lõhna ning maitse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Vees ei lahustu ja oluliselt mürgine po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Eraldatakse maagaasist, mille põhikomponent ta 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201132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1255680" cy="129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us</cp:lastModifiedBy>
  <dcterms:modified xsi:type="dcterms:W3CDTF">2009-03-30T16:27:5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